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120B-F23F-4ADD-AA9F-6FCF3B3A1111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250 млн. лева за ОП НОИР (от 800 млн. от ЕС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E779-FAD7-404F-A725-3C49E5D6A49D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0D5-664F-464B-8C6E-6CA2C01A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A109-EB36-4041-9C3B-F4349D0D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0D3-8F45-4B62-B22A-B18C5AC5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1E5-0E65-4606-98D9-6DB91A24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AA87-643E-4AE9-8DF4-FEA248C4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447D-7866-4F9B-87A2-A508560B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3939-7C30-4F48-BF30-6B0DBF69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1843-A271-4C47-9385-B4DDE960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7352-AB4E-45C6-BBC7-5C4F5156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7BED-BA2D-4D08-9CE2-614F3327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3968-5676-4122-A007-82BE6C84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42EA-C3F2-45C0-85D4-B6A81D58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A04F-A41C-42FA-A9A7-70313CE2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E36E-AF17-4B16-932F-205A356C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4FEB-2120-4BAB-922A-D47CC45F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8D01-FA00-4AA4-A25B-F3B522C8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BB94-6272-4987-BA84-0389829D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752E2-550A-45E4-8754-07A73B45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14ADB-9818-4ED0-8D09-F866EC91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41D95-508F-4F48-A249-1C8B6553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848B6-AA51-4E6D-BB87-49A6EBFC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FE912-2089-4A11-9A87-9D74DFDB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F44-0BF3-4293-A871-981E6D8D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14167-CB1A-47E5-8727-C0A8D4B7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22F2B-AF83-4FC8-B38B-DFC215D3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B5322-98CB-42F7-913D-8F0AB9CD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51034-BDE2-447D-8908-E35B370F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560B4-B5C1-4502-B852-5CCD33C7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23D2E-BE5A-4EA6-A238-A405D7FE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E3CA0-DD95-4E98-8577-3B15B754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884AB-3684-4597-9E54-B25F1233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4DAAD-BDD2-4D40-8F46-C7EEAAB9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CF02A-0A21-4082-BE80-5BEA1CA6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D49-EB17-4AB4-8548-11B7A08B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E4CAC-2414-4906-BE12-C82A659A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E1035-D8CD-4579-940B-ACBD96C0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8D078-090E-4823-BE63-D714D86D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C33EE-8082-4686-A92A-64B5018D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E0EB6-54AC-4EFE-8003-A2959447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319B6-8B2C-450B-A552-7176D788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3B11A-637C-4755-AA64-8C61D7EB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6E6DD-6C49-43CE-AA04-803E8F56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B1902-465A-4E60-85F3-6875D80E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ADE25-1643-414B-99F1-9241F434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CED-F65D-426D-B0A1-1F248383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A6174-C066-4D75-9836-7FEF17A6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D67AB-2154-45CE-AF12-E57E7B92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20DE7-C644-49A2-B237-5A91D9AE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B8B80-E91F-4869-B377-16B6E341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68397-9DE3-4A1E-AA11-4B2B7CD7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EBD8B-1FD0-4809-9795-705043B4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182F5-4747-40DF-A3C0-6EA93E82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142EB-4E0C-4409-BB6D-1D9D33DF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A1E51-3F62-472D-B343-BDDE5851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0BD23-DBA0-47C5-AD5D-A9AA39BA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721-071A-4E9B-98B3-D914DCCD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98399-0958-45EE-9FA2-2956802B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346E8-BB48-4F95-A99A-F35C977E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9182A-A974-4216-BFD2-7BDC9A87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4EAF5-F557-48F6-98EF-28D53F1E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A8B94-4B1A-46D9-8C46-26314B42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2E62E-73D8-4FE3-99F0-EB782D53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7BAB7-03ED-4C42-9B94-5DC64E0C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0BC2B-9F57-472D-9A8E-EDEA5949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573BE-833C-44FC-8115-0C9129A1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7999D-F7BF-482B-BDF0-4DF238D1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61D-CD20-4CA9-83F4-EC3365C1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3EB93-D2DD-470B-8BC6-A553A02C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30C68-6D46-4FB3-B477-69DA5764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E8631-D34D-4B5F-8CA1-10BAF6A4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E2974-DFFF-4E6A-9D5D-A91229F7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B0AEE-E9D1-48B0-9838-E8784DF0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30E7D-B5AB-47C1-A1AC-ACD7D1DF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52F1F-C452-405C-954A-A674C741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E492A-833C-4ECB-AA7F-A1CDE1A2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E8219-BDFD-4ABA-95C3-DDD74F2C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8F887-6CA0-4779-BD6C-A8D1625B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03A-0351-4936-B9F9-D12685AA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1F945-1ACD-4EB8-BCDC-7A43F347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83F8B-8FAA-4828-B8E0-A2B01056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4D47A-FA8E-4B52-BAA5-60C9A8F9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4E3B0-9CE6-462C-BF3D-864325C4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1E658-4E6E-4871-937F-D1B3A34F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2D8-F8EC-4D70-BF79-4CE7ED12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C17A-2BEB-4827-9316-63F9002F0CB4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FB7E-8405-470C-B917-56EEB586B815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3899-5C07-4096-B15D-4BD8ED3526EE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7441-18EF-4837-98AD-3472CBFCA758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B55A-8B89-4346-8C9A-36DBFDDE2EAA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4948-A7CF-41F8-B1CB-2951A48CD35A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4602-9AA4-4D58-91AD-06EC97156342}" type="slidenum">
              <a:rPr b="0" lang="bg-BG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Цели, приоритети и мерки в областта на образованието, науката и изследванията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2014 – 2020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3933360"/>
            <a:ext cx="7407000" cy="2374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20e04"/>
                </a:solidFill>
                <a:latin typeface="Corbel"/>
              </a:rPr>
              <a:t>Заседание на Съвета за координация при управлението на средствата от ЕС</a:t>
            </a: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16.10.2012 г., МС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Добромир Добрев, СУ “Св. Климент Охридски”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320e04"/>
                </a:solidFill>
                <a:latin typeface="Corbel"/>
              </a:rPr>
              <a:t>Член на работната група за подготовка на договора за партньорство 2014-2020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Content Placeholder 7" descr=""/>
          <p:cNvPicPr/>
          <p:nvPr/>
        </p:nvPicPr>
        <p:blipFill>
          <a:blip r:embed="rId1"/>
          <a:stretch/>
        </p:blipFill>
        <p:spPr>
          <a:xfrm>
            <a:off x="1279440" y="1444680"/>
            <a:ext cx="7797960" cy="48229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8"/>
          <p:cNvSpPr/>
          <p:nvPr/>
        </p:nvSpPr>
        <p:spPr>
          <a:xfrm>
            <a:off x="1476360" y="25178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Content Placeholder 7" descr=""/>
          <p:cNvPicPr/>
          <p:nvPr/>
        </p:nvPicPr>
        <p:blipFill>
          <a:blip r:embed="rId1"/>
          <a:stretch/>
        </p:blipFill>
        <p:spPr>
          <a:xfrm>
            <a:off x="1298520" y="1444680"/>
            <a:ext cx="7821720" cy="48099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8"/>
          <p:cNvSpPr/>
          <p:nvPr/>
        </p:nvSpPr>
        <p:spPr>
          <a:xfrm>
            <a:off x="1403280" y="256536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Content Placeholder 7" descr=""/>
          <p:cNvPicPr/>
          <p:nvPr/>
        </p:nvPicPr>
        <p:blipFill>
          <a:blip r:embed="rId1"/>
          <a:stretch/>
        </p:blipFill>
        <p:spPr>
          <a:xfrm>
            <a:off x="1279440" y="1444680"/>
            <a:ext cx="7851960" cy="4809960"/>
          </a:xfrm>
          <a:prstGeom prst="rect">
            <a:avLst/>
          </a:prstGeom>
          <a:ln w="0">
            <a:noFill/>
          </a:ln>
        </p:spPr>
      </p:pic>
      <p:sp>
        <p:nvSpPr>
          <p:cNvPr id="380" name="TextBox 8"/>
          <p:cNvSpPr/>
          <p:nvPr/>
        </p:nvSpPr>
        <p:spPr>
          <a:xfrm>
            <a:off x="1403280" y="256536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Content Placeholder 7" descr=""/>
          <p:cNvPicPr/>
          <p:nvPr/>
        </p:nvPicPr>
        <p:blipFill>
          <a:blip r:embed="rId1"/>
          <a:stretch/>
        </p:blipFill>
        <p:spPr>
          <a:xfrm>
            <a:off x="1347840" y="1444680"/>
            <a:ext cx="7753320" cy="4822920"/>
          </a:xfrm>
          <a:prstGeom prst="rect">
            <a:avLst/>
          </a:prstGeom>
          <a:ln w="0">
            <a:noFill/>
          </a:ln>
        </p:spPr>
      </p:pic>
      <p:sp>
        <p:nvSpPr>
          <p:cNvPr id="384" name="TextBox 8"/>
          <p:cNvSpPr/>
          <p:nvPr/>
        </p:nvSpPr>
        <p:spPr>
          <a:xfrm>
            <a:off x="1476360" y="25178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Бенефициен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Министерство на образованието, младежта и науката (МОМН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научни и академични организации и институ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учебни заведени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социално-икономически партньори, работодатели, браншови организа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центрове за професионално обуче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общин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неправителствени организации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извънучилищни педагогически институ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младежки организац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спортни клубове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музеи и библиотек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Бенефициенти – 2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34960" y="1447560"/>
            <a:ext cx="74995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на агенция за професионално образование и обучение (НАПОО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на агенция за оценяване и акредитация (НАОА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ен център "Европейски младежки програми и инициативи" (НЦЕМПИ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р за образователна интеграция на децата и учениците от етническите малцинства (ЦОИДУЕМ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р за контрол и оценка на качеството на училищното  образование (ЦКОКУО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р за информационно осигуряване на образованието (ЦИОО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Центът за развитие на човешките ресурси (ЦРЧР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340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Национален институт за обучение и квалификация в системата на образованието (НИОКСО) и др. второстепенни разпоредители към МОМН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Примерни предефинирани проек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580760"/>
            <a:ext cx="749952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1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Изграждане на центрове за компетентност (Centers of Excellence) в приоритетни научни области и от интерес за Европ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1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Масова дигитализация на научно, културно-историческо и документално съдържан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2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Професионалното образование, ориентирано към ефективен достъп до пазара на труд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2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Студентски практики 2020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354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3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Предучилищни и Училищни програми за подобряване на достъпа и задържане на ученицит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мерни предефинирани проекти – 2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960" y="1492200"/>
            <a:ext cx="749952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3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Общински програми за личностно развити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3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Ученически стипенд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4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Студентски и докторантски стипенд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5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Реконструкция, ремонт и строителство на детски градини и училищ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иоритетна ос 5: </a:t>
            </a:r>
            <a:r>
              <a:rPr b="1" lang="bg-BG" sz="2200" spc="-1" strike="noStrike">
                <a:solidFill>
                  <a:srgbClr val="320e04"/>
                </a:solidFill>
                <a:latin typeface="Corbel"/>
              </a:rPr>
              <a:t>Разширяване на прилагането на съвременните технологии в образователния процес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Управленски опит и административен капацитет на Главна дирекция „Структурни фондове и международни образователни програми”</a:t>
            </a: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(ГД СФМОП) към МОМН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Управленски опит по изпълнението на следните функции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Междинно звено по ОП РЧР 2007 – 2013 по Приоритетна ос 3 “Подобряване качеството на образованието и обучението в съответствие с потребностите на пазара на труда за изграждане на икономика, основана на знанието” и Приоритетна ос 4 “Подобряване достъпа до образование и обучение”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бщ бюджет за ПО 3 и ПО 4 </a:t>
            </a:r>
            <a:r>
              <a:rPr b="1" lang="ru-RU" sz="2200" spc="-1" strike="noStrike">
                <a:solidFill>
                  <a:srgbClr val="320e04"/>
                </a:solidFill>
                <a:latin typeface="Corbel"/>
              </a:rPr>
              <a:t>– 854 684 111 лв.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(36% от бюджета на ОП РЧР)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351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исок ръст на привлечени европейски средства и нисък дял на грешки (0,2 % при средно около 2 % за всички останали ОП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Управленски опит и административен капацитет на Главна дирекция „Структурни фондове и международни образователни програми”</a:t>
            </a: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(ГД СФМОП) към МОМН – 2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Звено за изпълнение на проекти по Програма ФАР (до м. август 2009 г.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Изпълнителна агенция по първия Меморандум за сътрудничество на България 2004-2009 със страните донори на Финансовия механизъм на Европейското икономическо пространств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20e04"/>
                </a:solidFill>
                <a:latin typeface="Corbel"/>
              </a:rPr>
              <a:t>Програмен оператор по програма, одобрена съгласно Меморандума 2009-2014 г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Административен капацитет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90 служители, разделени в 7 отдел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Corbel"/>
              </a:rPr>
              <a:t>опитът на служителите като част от Междинното звено по ОП РЧР  е подходяща основа за ефективно управление на новата Оперативна програма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572314"/>
                </a:solidFill>
                <a:latin typeface="Corbel"/>
              </a:rPr>
              <a:t>Съдържание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585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Актуално състояние на образованието </a:t>
            </a: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и науката </a:t>
            </a: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в Българ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Основни предпоставки за създаване на О</a:t>
            </a: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перативна програма “</a:t>
            </a: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Наука и образование за интелигентен растеж</a:t>
            </a: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” (ОП НОИР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Стратегическа и специфични цели на ОП НОИР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20e04"/>
                </a:solidFill>
                <a:latin typeface="Corbel"/>
              </a:rPr>
              <a:t>Тематична и структурна рамка на ОП НОИР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320e04"/>
                </a:solidFill>
                <a:latin typeface="Corbel"/>
              </a:rPr>
              <a:t>Приоритетни оси и мерки на ОП НОИР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358560">
              <a:lnSpc>
                <a:spcPct val="12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g-BG" sz="4000" spc="-1" strike="noStrike">
                <a:solidFill>
                  <a:srgbClr val="572314"/>
                </a:solidFill>
                <a:latin typeface="Corbel"/>
              </a:rPr>
              <a:t>БЛАГОДАРЯ ВИ!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17640" indent="0" algn="just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Оперативна програма “Наука и образование за интелигентен растеж 2014-2020” (ОП НОИР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just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59920"/>
            <a:ext cx="7499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бразователна структура на населението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600" y="1447560"/>
            <a:ext cx="74581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Паралел между актуалното състояние и заложените национални цели в Националната програма за реформи (2012-2020)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547640" y="2205000"/>
          <a:ext cx="7345440" cy="4114800"/>
        </p:xfrm>
        <a:graphic>
          <a:graphicData uri="http://schemas.openxmlformats.org/drawingml/2006/table">
            <a:tbl>
              <a:tblPr/>
              <a:tblGrid>
                <a:gridCol w="2087640"/>
                <a:gridCol w="2503440"/>
                <a:gridCol w="275436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ктуално съ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 данни за 2011 г. от: Наблюдение на работната сила, Н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ционални ц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заложени за 2020 г. в „Националната програма за реформи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ял на преждевременно напусналите образованиет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18 - 24 годи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ял на завършилите висше образ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30–34 годи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3, 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572314"/>
                </a:solidFill>
                <a:latin typeface="Corbel"/>
              </a:rPr>
              <a:t>Мястото на България в класацията на конкурентоспособностт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600" y="1447560"/>
            <a:ext cx="74581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България заема </a:t>
            </a:r>
            <a:r>
              <a:rPr b="1" lang="bg-BG" sz="2000" spc="-1" strike="noStrike">
                <a:solidFill>
                  <a:srgbClr val="000000"/>
                </a:solidFill>
                <a:latin typeface="Corbel"/>
              </a:rPr>
              <a:t>62-ро място</a:t>
            </a: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 от 144 страни за периода 2012-2013 г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В предишното издание на класацията България е заемала </a:t>
            </a:r>
            <a:r>
              <a:rPr b="1" lang="bg-BG" sz="2000" spc="-1" strike="noStrike">
                <a:solidFill>
                  <a:srgbClr val="000000"/>
                </a:solidFill>
                <a:latin typeface="Corbel"/>
              </a:rPr>
              <a:t>74-то място</a:t>
            </a: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rbel"/>
              </a:rPr>
              <a:t>Класацията е изготвена според 12 показателя, като България заема следните места по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здраве и основно образование - 49-то място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висше образование и обучение – 63-то място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начално образование - 67-мо място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rbel"/>
              </a:rPr>
              <a:t>иновации- 97-мо място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Corbel"/>
              </a:rPr>
              <a:t>Източник: Доклад за глобална конкурентоспособност 2012 - 2013 на Световния икономически форум (World Economic Forum), публикуван официално на 5 септември 2012 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Основни предпоставки в сферата на образованието, науката и изследваният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518840"/>
            <a:ext cx="752976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3297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Програмиране за новия програмен период – 2014-2020 г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0320" indent="-330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Актуални изисквания на нормативната уредба на ниво ЕС – проекти на регламенти: Общ регламент, Регламент на ЕСФ, Регламент на ЕФРР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70320" indent="-330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Други европейски документи – стратегия на Съюза за интелигентен, устойчив и приобщаващ растеж „Европа 2020”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670320" indent="-330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Национални стратегически и секторни документи, свързани с програмен период 2014 – 2020 г. – Национална програма за развитие </a:t>
            </a:r>
            <a:r>
              <a:rPr b="0" lang="bg-BG" sz="1600" spc="-1" strike="noStrike">
                <a:solidFill>
                  <a:srgbClr val="320e04"/>
                </a:solidFill>
                <a:latin typeface="Corbel"/>
              </a:rPr>
              <a:t>“</a:t>
            </a: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България 2020</a:t>
            </a:r>
            <a:r>
              <a:rPr b="0" lang="bg-BG" sz="1600" spc="-1" strike="noStrike">
                <a:solidFill>
                  <a:srgbClr val="320e04"/>
                </a:solidFill>
                <a:latin typeface="Corbel"/>
              </a:rPr>
              <a:t>”</a:t>
            </a: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, Национална програма за реформи (2012 – 2020 г.), Конвергентна програма за развитие (2012 – 2020 г</a:t>
            </a:r>
            <a:r>
              <a:rPr b="1" lang="ru-RU" sz="1600" spc="-1" strike="noStrike">
                <a:solidFill>
                  <a:srgbClr val="320e04"/>
                </a:solidFill>
                <a:latin typeface="Corbel"/>
              </a:rPr>
              <a:t>.</a:t>
            </a:r>
            <a:r>
              <a:rPr b="0" lang="ru-RU" sz="1600" spc="-1" strike="noStrike">
                <a:solidFill>
                  <a:srgbClr val="320e04"/>
                </a:solidFill>
                <a:latin typeface="Corbel"/>
              </a:rPr>
              <a:t>), рамкови стратегически документи в сферата на общото, професионалното и висшето образование, научните изследвания, ученето през целия живот, образователната интеграция, младежта и др.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5520" indent="-3297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20e04"/>
                </a:solidFill>
                <a:latin typeface="Corbel"/>
              </a:rPr>
              <a:t>Междинните резултати от настоящия програмен период 2007-2013 г. – анализи и оценки на отделни оперативни програми, както и на Националната стратегическа референтна рамка (която ще бъде заменена с договора за партньорство за периода 2014-2020 г.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Straight Connector 3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40" name="Elbow Connector 24"/>
          <p:cNvCxnSpPr>
            <a:stCxn id="341" idx="4"/>
            <a:endCxn id="342" idx="3"/>
          </p:cNvCxnSpPr>
          <p:nvPr/>
        </p:nvCxnSpPr>
        <p:spPr>
          <a:xfrm rot="5400000">
            <a:off x="5270400" y="2969280"/>
            <a:ext cx="2593440" cy="36554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3" name="Elbow Connector 24"/>
          <p:cNvCxnSpPr/>
          <p:nvPr/>
        </p:nvCxnSpPr>
        <p:spPr>
          <a:xfrm rot="5400000">
            <a:off x="6741000" y="4355280"/>
            <a:ext cx="2580480" cy="7275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Oval 4"/>
          <p:cNvSpPr/>
          <p:nvPr/>
        </p:nvSpPr>
        <p:spPr>
          <a:xfrm>
            <a:off x="1835280" y="260280"/>
            <a:ext cx="6697440" cy="165600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Corbel"/>
              </a:rPr>
              <a:t>ОСНОВНА ЦЕ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rbel"/>
              </a:rPr>
              <a:t>Постигане на интелигентен растеж и изграждане на общество, базирано на знанието, чрез повишаване качеството  на научните изследвания и образовани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971640" y="2133720"/>
            <a:ext cx="2087640" cy="13665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7"/>
          <p:cNvSpPr/>
          <p:nvPr/>
        </p:nvSpPr>
        <p:spPr>
          <a:xfrm>
            <a:off x="3076560" y="2146320"/>
            <a:ext cx="2087640" cy="1368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8"/>
          <p:cNvSpPr/>
          <p:nvPr/>
        </p:nvSpPr>
        <p:spPr>
          <a:xfrm>
            <a:off x="5203800" y="2133720"/>
            <a:ext cx="2087640" cy="13665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7350120" y="2133720"/>
            <a:ext cx="2089080" cy="13665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атична цел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6588000" y="3789360"/>
            <a:ext cx="2448000" cy="1368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3: Образователна среда за активно социално приобща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</a:t>
            </a:r>
            <a:r>
              <a:rPr b="1" lang="bg-BG" sz="1800" spc="-1" strike="noStrike">
                <a:solidFill>
                  <a:srgbClr val="ffffff"/>
                </a:solidFill>
                <a:latin typeface="Corbel"/>
              </a:rPr>
              <a:t>С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3924360" y="3789360"/>
            <a:ext cx="2448000" cy="1368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2: Образование за реална заетост, мобилност и предприема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С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4"/>
          <p:cNvSpPr/>
          <p:nvPr/>
        </p:nvSpPr>
        <p:spPr>
          <a:xfrm>
            <a:off x="1258920" y="3789360"/>
            <a:ext cx="2449440" cy="13683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1: Научни изследвания и технологичн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Ф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2292480" y="5386320"/>
            <a:ext cx="2447640" cy="141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O 4: Насърчаване на образованието, уменията и ученето през целия жив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rbel"/>
              </a:rPr>
              <a:t>ЕС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5219640" y="5373720"/>
            <a:ext cx="2448000" cy="141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orbel"/>
              </a:rPr>
              <a:t>П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O 5: </a:t>
            </a:r>
            <a:r>
              <a:rPr b="0" lang="bg-BG" sz="1800" spc="-1" strike="noStrike">
                <a:solidFill>
                  <a:srgbClr val="ffffff"/>
                </a:solidFill>
                <a:latin typeface="Corbel"/>
              </a:rPr>
              <a:t>Образовател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orbel"/>
              </a:rPr>
              <a:t>ЕФ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Elbow Connector 35"/>
          <p:cNvCxnSpPr>
            <a:stCxn id="347" idx="5"/>
            <a:endCxn id="348" idx="0"/>
          </p:cNvCxnSpPr>
          <p:nvPr/>
        </p:nvCxnSpPr>
        <p:spPr>
          <a:xfrm flipH="1" rot="16200000">
            <a:off x="7153200" y="3131280"/>
            <a:ext cx="489600" cy="827640"/>
          </a:xfrm>
          <a:prstGeom prst="bentConnector3">
            <a:avLst>
              <a:gd name="adj1" fmla="val 52980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Straight Arrow Connector 56"/>
          <p:cNvCxnSpPr>
            <a:stCxn id="346" idx="4"/>
            <a:endCxn id="349" idx="0"/>
          </p:cNvCxnSpPr>
          <p:nvPr/>
        </p:nvCxnSpPr>
        <p:spPr>
          <a:xfrm>
            <a:off x="4120920" y="3514320"/>
            <a:ext cx="102780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59"/>
          <p:cNvCxnSpPr>
            <a:stCxn id="345" idx="4"/>
            <a:endCxn id="350" idx="0"/>
          </p:cNvCxnSpPr>
          <p:nvPr/>
        </p:nvCxnSpPr>
        <p:spPr>
          <a:xfrm>
            <a:off x="2015640" y="3499920"/>
            <a:ext cx="469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Straight Arrow Connector 62"/>
          <p:cNvCxnSpPr>
            <a:stCxn id="344" idx="4"/>
            <a:endCxn id="345" idx="0"/>
          </p:cNvCxnSpPr>
          <p:nvPr/>
        </p:nvCxnSpPr>
        <p:spPr>
          <a:xfrm flipH="1">
            <a:off x="2015640" y="1916280"/>
            <a:ext cx="316944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Straight Arrow Connector 66"/>
          <p:cNvCxnSpPr>
            <a:stCxn id="344" idx="4"/>
            <a:endCxn id="346" idx="0"/>
          </p:cNvCxnSpPr>
          <p:nvPr/>
        </p:nvCxnSpPr>
        <p:spPr>
          <a:xfrm flipH="1">
            <a:off x="4120920" y="1915920"/>
            <a:ext cx="106416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Straight Arrow Connector 69"/>
          <p:cNvCxnSpPr>
            <a:stCxn id="344" idx="4"/>
            <a:endCxn id="347" idx="0"/>
          </p:cNvCxnSpPr>
          <p:nvPr/>
        </p:nvCxnSpPr>
        <p:spPr>
          <a:xfrm>
            <a:off x="5184360" y="1916280"/>
            <a:ext cx="106452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Straight Arrow Connector 72"/>
          <p:cNvCxnSpPr>
            <a:stCxn id="344" idx="4"/>
            <a:endCxn id="341" idx="0"/>
          </p:cNvCxnSpPr>
          <p:nvPr/>
        </p:nvCxnSpPr>
        <p:spPr>
          <a:xfrm>
            <a:off x="5184360" y="1916280"/>
            <a:ext cx="321084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Специфични цели на ОП НОИР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920"/>
            <a:ext cx="7499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326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Специфични цел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зграждане на конкурентна среда за качествени научни и иновативни изследвания чрез постепенно повишаване на средствата за научно-изследователска и иновационна дейност до 1,5 % от БВП към 2020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Създаване на благоприятна среда за възпроизводство и развитие на капацитета на научния сектор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3261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одобряване на качеството на висшето образование и повишаване броя на завършилите висше образование във възрастовата група на 30-34-годишните до 36%  към 2020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440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Специфични цели на ОП НОИР – 2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920"/>
            <a:ext cx="7499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33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Специфични цел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одобряване на качеството на предучилищното и на училищното образование и намаляване на дела на преждевременно напусналите образователната система до 11 % към 2020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Създаване на условия за развитие на личностни и професионални знания и умения през целия живо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33336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Corbe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Развитие и модернизиране на научната и на образователната инфраструктура и повишаване броя на заетите в модернизирана сред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Straight Connector 4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оритетни оси и мерки на ОП НОИР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Straight Connector 6"/>
          <p:cNvSpPr/>
          <p:nvPr/>
        </p:nvSpPr>
        <p:spPr>
          <a:xfrm>
            <a:off x="1547640" y="1268280"/>
            <a:ext cx="719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Content Placeholder 7" descr=""/>
          <p:cNvPicPr/>
          <p:nvPr/>
        </p:nvPicPr>
        <p:blipFill>
          <a:blip r:embed="rId1"/>
          <a:stretch/>
        </p:blipFill>
        <p:spPr>
          <a:xfrm>
            <a:off x="1322280" y="1444680"/>
            <a:ext cx="7742520" cy="48229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8"/>
          <p:cNvSpPr/>
          <p:nvPr/>
        </p:nvSpPr>
        <p:spPr>
          <a:xfrm>
            <a:off x="1476360" y="251784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20e04"/>
                </a:solidFill>
                <a:latin typeface="Arial"/>
              </a:rPr>
              <a:t>Области на интерв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4:40:36Z</dcterms:created>
  <dc:creator>Dobri Business</dc:creator>
  <dc:description/>
  <dc:language>en-US</dc:language>
  <cp:lastModifiedBy>Dobri Business</cp:lastModifiedBy>
  <dcterms:modified xsi:type="dcterms:W3CDTF">2012-10-15T13:05:04Z</dcterms:modified>
  <cp:revision>82</cp:revision>
  <dc:subject/>
  <dc:title>Концепция за мерките в областта на образованието, науката и изследванията за програмния период 2014 – 2020</dc:title>
</cp:coreProperties>
</file>