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63E1-9185-4310-9F74-08B6BCB6D0F8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50 млн. лева за ОП НОИР (от 800 млн. от ЕС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AFD5-AF96-46AB-BF5B-5EBF5769980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55E-2724-4DE7-A9A3-225FE542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8F1-C435-4A26-9280-C98E67D7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CEC-0501-480B-8D49-A252CD12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A9D-B9DB-4F0F-8DDA-1D6C45B8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5E82-61FB-4269-9767-C320CB75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67C6-4CDF-431E-84A1-9D24D679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B59E-AE36-411B-8456-250035E0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8AD8-2CDA-41EE-A089-90DDB5A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52D1-628A-409A-9FB5-6B713A8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2B6A-FB65-4208-B5E6-CCD9A8EE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1798-43F6-4F22-BC75-6BB19BA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62C-3FCD-4788-8774-3EAFDBB0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5554-616A-4C12-BA26-706B39B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508A-D0B1-4C6F-A279-63633B38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E28C-81B8-491F-B94C-DB9A7D8A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2F8B-72D9-492A-AFA7-84EC879A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11A7-6E0F-4C0E-85D8-9B858BE4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C248-6E22-4B9A-8B41-6C412B56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7781-E330-4FBF-AB29-3EE0A5D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4332-7D1F-410B-98A6-AF5F8BDD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FDEC-46DC-4CCA-96D5-75DD292B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8843-12EA-4504-B506-7EBB9A6C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B24-C9AA-483F-BF8C-0BB583F6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16AB-8C4A-4133-975A-92AD05B4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6B80-1301-45B3-AC55-9A5C75D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0251-1827-4BE9-83E9-3AD6F062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383F-292A-47ED-B2F2-BA17153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7935-C7DB-485F-84D1-88ED7C3F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07AB-F603-47C1-A71A-62C0CB28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68CC-12CA-4792-8865-D0E2F880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EA96-954B-41E8-B81E-682D9B8D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BD3E-5ECB-42BC-884E-2AF9838B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C658C-6D20-49BF-B9FB-62082BE5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D3D-4452-403F-B571-22934E4D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57EE-17AE-4F1F-93A1-00F12D13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7630C-2788-4C3E-A3CD-80F19FB4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91AB5-DA21-46EC-A7F3-1FEFE45D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B1AF-0A1D-4379-8C0D-2CE4F2B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E43B-F63D-4A43-94CD-113E9927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B0F98-59AD-45B2-8ACA-8EE8B21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414F-42A1-41B3-AC54-BA6F1BC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1A178-9756-404F-AFA6-97BD886F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400B-F522-4A3A-8AA1-9A322B3E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E5B1-5F73-4D1D-86EB-09DFF25A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FD8-0FEC-4D84-8D5E-404D942B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4A944-650B-4103-89C6-FD647E78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BF00F-8A74-48F7-9DC4-081E6B84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EDB78-C9A1-4EE7-8075-9E6A8C93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5905-1333-4D75-B7EB-08A8F460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3B5D-F68C-411D-87E3-1F711FA0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2EB1-9021-4C8C-844C-D727BB95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6A1E7-34C4-4D0A-B002-509322A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FD8E-59EE-46C1-A941-3BF3F944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30EF-5988-4A7E-8BAB-789B8674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32840-FD7E-4E7E-A6D7-541800E8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883-B272-4217-938E-562E2818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8492-652D-4A25-8B1B-9E27748F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D029-EBCF-4A47-92FD-03B8E299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0A9CB-4131-47B9-A60F-F34C9D9C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79489-02D3-4BE1-9020-97A8D69F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B9745-F76C-473B-9EE2-5FE26E71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0A9E7-25E8-4F79-B9AD-8186CD0F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F4480-FCE9-45C8-AA13-82CBF84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7A229-2BD4-430A-91BF-733CB63C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A87B-745C-4370-8C19-5BC9B35B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49CC-3C00-4D64-807F-E75B2A38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C43-7BC6-44AA-B11B-93C3F2D3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A833C-548E-4E3E-A700-DC810D72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73097-A025-4EC8-BBA9-52339F5D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31DBB-E332-4245-A993-6F8901ED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5560B-559C-4FBD-B480-20422158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4C6F7-F065-4BBC-87C7-56B7D572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2CAC2-AF7F-49C7-9666-B91A0454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50887-3002-4ADD-8097-0477F5F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7D0FC-B9A3-4C50-A415-9068F59F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64996-BC2A-48D8-A897-37A6757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B914D-9C9C-4281-84DD-94BEBED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195-545E-4F2E-8226-AE58AC3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EB453-D7BD-4632-9D18-A26B7DC5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AF9BF-53A9-46D3-ACF6-A05C7F9A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8B8A2-D1AF-471B-8220-2F47296F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9886A-6B14-46C1-ABD7-395F4085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B9F44-D4CD-4058-BB65-8F1A7BEF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FF8-5C51-4914-B9DF-1080434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8D04-9E48-4734-A78E-32F299486AA0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C79B-B7AE-4C18-B92C-3D064C81F686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CC63-FAE6-4DD8-BE91-0F44437AF843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E6C4-19CB-4550-81B7-D61C71323D53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F7DA-8B6F-40C8-862B-C52D982DF15F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DDE0-897A-4138-9D01-79F2F0FABB42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EC5B-0B9F-4D82-8F95-C9F0295E459E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Цели, приоритети и мерки в областта на образованието, науката и изследванията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014 – 2020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3933360"/>
            <a:ext cx="7407000" cy="237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20e04"/>
                </a:solidFill>
                <a:latin typeface="Corbel"/>
              </a:rPr>
              <a:t>Заседание на Съвета за координация при управлението на средствата от ЕС</a:t>
            </a: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16.10.2012 г., М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Добромир Добрев, СУ “Св. Климент Охридски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Член на работната група за подготовка на договора за партньорство 2014-202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797960" cy="48229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Content Placeholder 7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7821720" cy="48099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851960" cy="48099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Content Placeholder 7" descr=""/>
          <p:cNvPicPr/>
          <p:nvPr/>
        </p:nvPicPr>
        <p:blipFill>
          <a:blip r:embed="rId1"/>
          <a:stretch/>
        </p:blipFill>
        <p:spPr>
          <a:xfrm>
            <a:off x="1347840" y="1444680"/>
            <a:ext cx="7753320" cy="48229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инистерство на образованието, младежта и науката (МОМ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аучни и академични организации 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учебни завед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оциално-икономически партньори, работодатели, браншов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центрове за професионално обу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общи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еправителствени организаци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вънучилищни педагогическ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ладежк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портни клубове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узеи и библиоте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професионално образование и обучение (НАП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оценяване и акредитация (НАОА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център "Европейски младежки програми и инициативи" (НЦЕМП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образователна интеграция на децата и учениците от етническите малцинства (ЦОИДУЕМ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контрол и оценка на качеството на училищното  образование (ЦКОКУ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информационно осигуряване на образованието (ЦИ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т за развитие на човешките ресурси (ЦРЧ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институт за обучение и квалификация в системата на образованието (НИОКСО) и др. второстепенни разпоредители към МОМ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580760"/>
            <a:ext cx="74995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Изграждане на центрове за компетентност (Centers of Excellence) в приоритетни научни области и от интерес за Европ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Масова дигитализация на научно, културно-историческо и документално съдържа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офесионалното образование, ориентирано към ефективен достъп до пазара на труд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практики 202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едучилищни и Училищни програми за подобряване на достъпа и задържане на ученицит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 – 2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9220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Общински програми за личностно развит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Учениче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4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и докторант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еконструкция, ремонт и строителство на детски градини и училищ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азширяване на прилагането на съвременните технологии в образователния процес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правленски опит по изпълнението на следните функци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Междинно звено по ОП РЧР 2007 – 2013 по Приоритетна ос 3 “Подобряване качеството на образованието и обучението в съответствие с потребностите на пазара на труда за изграждане на икономика, основана на знанието” и Приоритетна ос 4 “Подобряване достъпа до образование и обучение”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бщ бюджет за ПО 3 и ПО 4 </a:t>
            </a:r>
            <a:r>
              <a:rPr b="1" lang="ru-RU" sz="2200" spc="-1" strike="noStrike">
                <a:solidFill>
                  <a:srgbClr val="320e04"/>
                </a:solidFill>
                <a:latin typeface="Corbel"/>
              </a:rPr>
              <a:t>– 854 684 111 лв.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(36% от бюджета на ОП РЧР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исок ръст на привлечени европейски средства и нисък дял на грешки (0,2 % при средно около 2 % за всички останали ОП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 – 2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Звено за изпълнение на проекти по Програма ФАР (до м. август 2009 г.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пълнителна агенция по първия Меморандум за сътрудничество на България 2004-2009 със страните донори на Финансовия механизъм на Европейското икономическо пространств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ограмен оператор по програма, одобрена съгласно Меморандума 2009-2014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дминистративен капацитет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90 служители, разделени в 7 отдел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опитът на служителите като част от Междинното звено по ОП РЧР  е подходяща основа за ефективно управление на новата Оперативна програм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72314"/>
                </a:solidFill>
                <a:latin typeface="Corbel"/>
              </a:rPr>
              <a:t>Съдържа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Актуално състояние на образованието 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и науката 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в Българ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Основни предпоставки за създаване на О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еративна програма “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Наука и образование за интелигентен растеж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” (ОП НОИР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Стратегическа и специфични цел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Тематична и структурна рамка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риоритетни оси и мерк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g-BG" sz="4000" spc="-1" strike="noStrike">
                <a:solidFill>
                  <a:srgbClr val="572314"/>
                </a:solidFill>
                <a:latin typeface="Corbel"/>
              </a:rPr>
              <a:t>БЛАГОДАРЯ ВИ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Оперативна програма “Наука и образование за интелигентен растеж 2014-2020” (ОП НОИ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59920"/>
            <a:ext cx="7499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разователна структура на населениет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Паралел между актуалното състояние и заложените национални цели в Националната програма за реформи (2012-2020)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47640" y="2205000"/>
          <a:ext cx="7345440" cy="4114800"/>
        </p:xfrm>
        <a:graphic>
          <a:graphicData uri="http://schemas.openxmlformats.org/drawingml/2006/table">
            <a:tbl>
              <a:tblPr/>
              <a:tblGrid>
                <a:gridCol w="2087640"/>
                <a:gridCol w="2503440"/>
                <a:gridCol w="2754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ктуално съ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 данни за 2011 г. от: Наблюдение на работната сила, 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ционални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ложени за 2020 г. в „Националната програма за реформи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преждевременно напусналите образование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8 - 2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завършилите висше образ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30–3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,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72314"/>
                </a:solidFill>
                <a:latin typeface="Corbel"/>
              </a:rPr>
              <a:t>Мястото на България в класацията на конкурентоспособност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България заем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62-р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 от 144 страни за периода 2012-2013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В предишното издание на класацията България е заемал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74-т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Класацията е изготвена според 12 показателя, като България заема следните места п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здраве и основно образование - 49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висше образование и обучение – 63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начално образование - 67-м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иновации- 97-мо място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Corbel"/>
              </a:rPr>
              <a:t>Източник: Доклад за глобална конкурентоспособност 2012 - 2013 на Световния икономически форум (World Economic Forum), публикуван официално на 5 септември 2012 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и предпоставки в сферата на образованието, науката и изследвания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518840"/>
            <a:ext cx="75297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Програмиране за новия програмен период – 2014-2020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Актуални изисквания на нормативната уредба на ниво ЕС – проекти на регламенти: Общ регламент, Регламент на ЕСФ, Регламент на ЕФРР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Други европейски документи – стратегия на Съюза за интелигентен, устойчив и приобщаващ растеж „Европа 2020”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Национални стратегически и секторни документи, свързани с програмен период 2014 – 2020 г. – Национална програма за развитие 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“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България 2020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”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, Национална програма за реформи (2012 – 2020 г.), Конвергентна програма за развитие (2012 – 2020 г</a:t>
            </a:r>
            <a:r>
              <a:rPr b="1" lang="ru-RU" sz="1600" spc="-1" strike="noStrike">
                <a:solidFill>
                  <a:srgbClr val="320e04"/>
                </a:solidFill>
                <a:latin typeface="Corbel"/>
              </a:rPr>
              <a:t>.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), рамкови стратегически документи в сферата на общото, професионалното и висшето образование, научните изследвания, ученето през целия живот, образователната интеграция, младежта и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Междинните резултати от настоящия програмен период 2007-2013 г. – анализи и оценки на отделни оперативни програми, както и на Националната стратегическа референтна рамка (която ще бъде заменена с договора за партньорство за периода 2014-2020 г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0" name="Elbow Connector 24"/>
          <p:cNvCxnSpPr>
            <a:stCxn id="341" idx="4"/>
            <a:endCxn id="342" idx="3"/>
          </p:cNvCxnSpPr>
          <p:nvPr/>
        </p:nvCxnSpPr>
        <p:spPr>
          <a:xfrm rot="5400000">
            <a:off x="5270400" y="2969280"/>
            <a:ext cx="2593440" cy="36554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Elbow Connector 24"/>
          <p:cNvCxnSpPr/>
          <p:nvPr/>
        </p:nvCxnSpPr>
        <p:spPr>
          <a:xfrm rot="5400000">
            <a:off x="6741000" y="4355280"/>
            <a:ext cx="2580480" cy="7275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Oval 4"/>
          <p:cNvSpPr/>
          <p:nvPr/>
        </p:nvSpPr>
        <p:spPr>
          <a:xfrm>
            <a:off x="1835280" y="260280"/>
            <a:ext cx="669744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ОСНОВНА Ц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rbel"/>
              </a:rPr>
              <a:t>Постигане на интелигентен растеж и изграждане на общество, базирано на знанието, чрез повишаване качеството  на научните изследвания и образова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97164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3076560" y="2146320"/>
            <a:ext cx="2087640" cy="136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520380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7350120" y="2133720"/>
            <a:ext cx="208908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658800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3: Образователна среда за активно социално приобща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92436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2: Образование за реална заетост, мобилност и предприем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1258920" y="3789360"/>
            <a:ext cx="244944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1: Научни изследвания и технологич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2292480" y="5386320"/>
            <a:ext cx="244764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4: Насърчаване на образованието, уменията и ученето през целия 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5219640" y="5373720"/>
            <a:ext cx="244800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O 5: </a:t>
            </a: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Образовате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Elbow Connector 35"/>
          <p:cNvCxnSpPr>
            <a:stCxn id="347" idx="5"/>
            <a:endCxn id="348" idx="0"/>
          </p:cNvCxnSpPr>
          <p:nvPr/>
        </p:nvCxnSpPr>
        <p:spPr>
          <a:xfrm flipH="1" rot="16200000">
            <a:off x="7153200" y="3131280"/>
            <a:ext cx="489600" cy="827640"/>
          </a:xfrm>
          <a:prstGeom prst="bentConnector3">
            <a:avLst>
              <a:gd name="adj1" fmla="val 5298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Straight Arrow Connector 56"/>
          <p:cNvCxnSpPr>
            <a:stCxn id="346" idx="4"/>
            <a:endCxn id="349" idx="0"/>
          </p:cNvCxnSpPr>
          <p:nvPr/>
        </p:nvCxnSpPr>
        <p:spPr>
          <a:xfrm>
            <a:off x="4120920" y="3514320"/>
            <a:ext cx="10278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59"/>
          <p:cNvCxnSpPr>
            <a:stCxn id="345" idx="4"/>
            <a:endCxn id="350" idx="0"/>
          </p:cNvCxnSpPr>
          <p:nvPr/>
        </p:nvCxnSpPr>
        <p:spPr>
          <a:xfrm>
            <a:off x="2015640" y="349992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2"/>
          <p:cNvCxnSpPr>
            <a:stCxn id="344" idx="4"/>
            <a:endCxn id="345" idx="0"/>
          </p:cNvCxnSpPr>
          <p:nvPr/>
        </p:nvCxnSpPr>
        <p:spPr>
          <a:xfrm flipH="1">
            <a:off x="2015640" y="1916280"/>
            <a:ext cx="31694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6"/>
          <p:cNvCxnSpPr>
            <a:stCxn id="344" idx="4"/>
            <a:endCxn id="346" idx="0"/>
          </p:cNvCxnSpPr>
          <p:nvPr/>
        </p:nvCxnSpPr>
        <p:spPr>
          <a:xfrm flipH="1">
            <a:off x="4120920" y="1915920"/>
            <a:ext cx="10641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9"/>
          <p:cNvCxnSpPr>
            <a:stCxn id="344" idx="4"/>
            <a:endCxn id="347" idx="0"/>
          </p:cNvCxnSpPr>
          <p:nvPr/>
        </p:nvCxnSpPr>
        <p:spPr>
          <a:xfrm>
            <a:off x="5184360" y="1916280"/>
            <a:ext cx="1064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72"/>
          <p:cNvCxnSpPr>
            <a:stCxn id="344" idx="4"/>
            <a:endCxn id="341" idx="0"/>
          </p:cNvCxnSpPr>
          <p:nvPr/>
        </p:nvCxnSpPr>
        <p:spPr>
          <a:xfrm>
            <a:off x="5184360" y="1916280"/>
            <a:ext cx="32108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зграждане на конкурентна среда за качествени научни и иновативни изследвания чрез постепенно повишаване на средствата за научно-изследователска и иновационна дейност до 1,5 % от БВП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благоприятна среда за възпроизводство и развитие на капацитета на научния се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висшето образование и повишаване броя на завършилите висше образование във възрастовата група на 30-34-годишните до 36% 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440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предучилищното и на училищното образование и намаляване на дела на преждевременно напусналите образователната система до 11 %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условия за развитие на личностни и професионални знания и умения през целия живо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Развитие и модернизиране на научната и на образователната инфраструктура и повишаване броя на заетите в модернизирана сре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Content Placeholder 7" descr=""/>
          <p:cNvPicPr/>
          <p:nvPr/>
        </p:nvPicPr>
        <p:blipFill>
          <a:blip r:embed="rId1"/>
          <a:stretch/>
        </p:blipFill>
        <p:spPr>
          <a:xfrm>
            <a:off x="1322280" y="1444680"/>
            <a:ext cx="7742520" cy="48229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40:36Z</dcterms:created>
  <dc:creator>Dobri Business</dc:creator>
  <dc:description/>
  <dc:language>en-US</dc:language>
  <cp:lastModifiedBy>Dobri Business</cp:lastModifiedBy>
  <dcterms:modified xsi:type="dcterms:W3CDTF">2012-10-15T13:05:04Z</dcterms:modified>
  <cp:revision>82</cp:revision>
  <dc:subject/>
  <dc:title>Концепция за мерките в областта на образованието, науката и изследванията за програмния период 2014 – 2020</dc:title>
</cp:coreProperties>
</file>