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C50A-4A4C-4060-B96C-2DEBF475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C02-5C40-4121-B296-7702D311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1F70-852B-4DC3-BDC8-DD275332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752-C60D-4308-ACCA-8DD4FD16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2D3-1BD9-4EE0-9A3D-43D452AD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9DC-3F27-44BA-8E96-B5977134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B1E-0BF4-43A0-BE40-A6CDE670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DE2-F2E0-492F-B25E-19047F0E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20B-0A96-4B0E-9969-37C3F59B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A0B-6034-48F8-8AAB-A86B77F5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A2F4-6CA3-4917-BDC6-BBB4A41C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038-87C8-48CD-8949-0AC4270D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1211-6D5F-4E6A-903E-5C0A832EA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5589720"/>
            <a:ext cx="8353440" cy="1162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84360" y="620640"/>
            <a:ext cx="5194440" cy="102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932000" y="5876640"/>
            <a:ext cx="3816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Декември 201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706400" cy="1108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77080" y="320760"/>
            <a:ext cx="1727280" cy="949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Times New Roman"/>
              </a:rPr>
              <a:t>Н А С О К И </a:t>
            </a:r>
            <a:br>
              <a:rPr sz="2800"/>
            </a:b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ЗА ИНТЕГРИРАНЕ НА ПОЛИТИКИТЕ ПО ОКОЛНА СРЕДА И ИЗМЕНЕНИЕ НА КЛИМАТА ВЪВ ФОНДОВЕТЕ З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ПЕРИОДА 2014 – 2020 Г.</a:t>
            </a:r>
            <a:r>
              <a:rPr b="1" lang="bg-BG" sz="4000" spc="-1" strike="noStrike">
                <a:solidFill>
                  <a:srgbClr val="333399"/>
                </a:solidFill>
                <a:latin typeface="Cambri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ambria"/>
              </a:rPr>
              <a:t> 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Етап: Програмиране на фондовете към Общата стратегическа р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ПРЕДВАРИТЕЛНИ УСЛОВИЯ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56908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Съгласно чл. 17 от проекта на Общ регламент за всеки от фондовете по Общата стратегическа рамка се определят </a:t>
            </a:r>
            <a:r>
              <a:rPr b="1" lang="bg-BG" sz="2800" spc="-1" strike="noStrike" u="sng">
                <a:solidFill>
                  <a:srgbClr val="0070c0"/>
                </a:solidFill>
                <a:uFillTx/>
                <a:latin typeface="Times New Roman"/>
              </a:rPr>
              <a:t>предварителни условия, вкл. хоризонталните условности в областта на околната среда</a:t>
            </a: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 (Приложение IV към проек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Отговорник за изпълнение на условията по тематични цели 4, 5 и 6, както и на хоризонталното условие във връзка с ОВОС и екологична оценка, освен МОСВ, са и секторните министерства съобразно тяхната компетент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5805360"/>
            <a:ext cx="8209080" cy="1052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8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669900"/>
                </a:solidFill>
                <a:latin typeface="Arial"/>
              </a:rPr>
              <a:t>ОПЕРАТИВНА ПРОГРАМА “ОКОЛНА СРЕДА 2007 – 2013 г.”</a:t>
            </a:r>
            <a:br>
              <a:rPr sz="2200"/>
            </a:br>
            <a:r>
              <a:rPr b="1" lang="en-US" sz="2200" spc="-1" strike="noStrike">
                <a:solidFill>
                  <a:srgbClr val="669900"/>
                </a:solidFill>
                <a:latin typeface="Arial"/>
              </a:rPr>
              <a:t>www.ope.moew.government.b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916360" y="4365720"/>
          <a:ext cx="5761080" cy="792000"/>
        </p:xfrm>
        <a:graphic>
          <a:graphicData uri="http://schemas.openxmlformats.org/drawingml/2006/table">
            <a:tbl>
              <a:tblPr/>
              <a:tblGrid>
                <a:gridCol w="57610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лагодаря Ви за вниманието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881440" cy="1590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5805360"/>
            <a:ext cx="8209080" cy="765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372360" y="1989000"/>
            <a:ext cx="2232000" cy="1581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187280" y="1989000"/>
            <a:ext cx="2016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Times New Roman"/>
              </a:rPr>
              <a:t>ОТПРАВНА ТОЧ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70c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В изпълнение на чл. 8 от проекта на общ регламент всяка оперативна програма следва да има анализ на потенциала за изпълнение на изискванията за интегриране на политиките за околна среда и изменение на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70c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Съгласно чл. 87, пар. 7, всяка оперативна програма (без техническа помощ), където е релевантно, следва да включва описание на специфичните дейности които ще вземат предвид изискванията за опазване на околната среда, ресурсната ефективност, адаптирането към и справянето с изменението на климата, устойчивостта към природни бедствия, превенцията и управлението на риска при избора на операции за финансиране.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”</a:t>
            </a:r>
            <a:r>
              <a:rPr b="0" lang="bg-BG" sz="1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Times New Roman"/>
              </a:rPr>
              <a:t>ОСНОВНИ ЕЛЕМЕНТИ НА НАСОКИТ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       </a:t>
            </a: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Насоките обхващат следните основни ча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Въ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Архитектура на програмирането на фондовете към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Общата стратегическа рамка 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за 2014 - 2020 г.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Основни изисквания на регламентите за фондовете към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Общата стратегическа рамка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за интегр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иране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на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политиките по околна среда и изменение на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Настояща ситуация и необходимост от нов подход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Инструменти за интегр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иране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на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политиките по околна среда и изменение на климата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във фаза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“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програмиране” на фондовете към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Общата стратегическа рамка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за 2014 - 2020 г.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Приложени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2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Инструменти за интегр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иране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 на 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политиките по околна среда и изменение на климата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 във фондовете към 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 Общата стратегическа рамка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 за 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периода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2014 – 2020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256536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Анализ на състояни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Стратегическо плани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Финансови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Екологична оце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Предварителни усло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0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Times New Roman"/>
              </a:rPr>
              <a:t>АНАЛИЗ НА СЪСТОЯНИЕТ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40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В подкрепа на изпълнението на новите ангажименти, МОСВ (чрез вътрешноведомствена работна група) анализира и обобщи законодателните изисквания, приложими за политиките по околна среда и изменени на климата за периода след 2013 г. и разработи Насоките за интегрира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Проектът на Насоки бе представен на компетентните ведомства за коментари и предло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8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136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bg-BG" sz="3000" spc="-1" strike="noStrike">
                <a:solidFill>
                  <a:srgbClr val="333399"/>
                </a:solidFill>
                <a:latin typeface="Times New Roman"/>
              </a:rPr>
              <a:t>СТРАТЕГИЧЕСКО ПЛАНИРАНЕ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701720"/>
            <a:ext cx="8893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Приоритетите и дейностите във всяка оперативна програма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следва да бъдат достатъчни и адекватни за изпълнение на изискванията за интегриране на политиките по околна среда и изменение на климата в 5-те фонда и да са съобразени с изискванията за тематична концентрация на фондовете от 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т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за финансиране от оперативните програми са представени в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Приложение I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към насоките. Те са основен инструмент за изпълнение на изискванията за интегриране на тези политики. Включени са и разяснения за осигуряване на допълняемост между отделните про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8209080" cy="620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6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136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по-добро управлението на водите за постигане на по-добър екологичен статус, по-висока ефективност ресурсите и справяне с последствията върху водите от изменението на клима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по-добро управлението на отпадъците, съобразно йерархията за управлението им и с оглед постигане на по - висока ефективност на този ресурс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действия по климата: енергийната ефективност и ВЕ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действия по климата: подобряване качеството на въздуха и намаляване емисиите на парникови газов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опазване и възстановяване на биологичното разнообразие, включително мрежата НАТУРА 2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укрепване на капацитет и за техническа помо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8209080" cy="620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755640" y="836640"/>
            <a:ext cx="777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333399"/>
                </a:solidFill>
                <a:latin typeface="Times New Roman"/>
              </a:rPr>
              <a:t>Приложение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I: </a:t>
            </a:r>
            <a:r>
              <a:rPr b="1" lang="bg-BG" sz="3000" spc="-1" strike="noStrike">
                <a:solidFill>
                  <a:srgbClr val="333399"/>
                </a:solidFill>
                <a:latin typeface="Times New Roman"/>
              </a:rPr>
              <a:t>Необходими интерв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207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ФИНАНСОВИ СРЕДСТВА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48572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625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Изпълнението на политиките за околна среда и изменение на климата изисква планиране и </a:t>
            </a:r>
            <a:r>
              <a:rPr b="1" lang="bg-BG" sz="3000" spc="-1" strike="noStrike" u="sng">
                <a:solidFill>
                  <a:srgbClr val="333399"/>
                </a:solidFill>
                <a:uFillTx/>
                <a:latin typeface="Times New Roman"/>
              </a:rPr>
              <a:t>осигуряване на съществен финансов ресурс</a:t>
            </a: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625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Необходимо е, да се предприемат мерки за </a:t>
            </a:r>
            <a:r>
              <a:rPr b="1" lang="bg-BG" sz="3000" spc="-1" strike="noStrike" u="sng">
                <a:solidFill>
                  <a:srgbClr val="333399"/>
                </a:solidFill>
                <a:uFillTx/>
                <a:latin typeface="Times New Roman"/>
              </a:rPr>
              <a:t>бъдещо проследяване</a:t>
            </a: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bg-BG" sz="3000" spc="-1" strike="noStrike" u="sng">
                <a:solidFill>
                  <a:srgbClr val="333399"/>
                </a:solidFill>
                <a:uFillTx/>
                <a:latin typeface="Times New Roman"/>
              </a:rPr>
              <a:t>на разходите (</a:t>
            </a:r>
            <a:r>
              <a:rPr b="1" lang="en-US" sz="3000" spc="-1" strike="noStrike" u="sng">
                <a:solidFill>
                  <a:srgbClr val="333399"/>
                </a:solidFill>
                <a:uFillTx/>
                <a:latin typeface="Times New Roman"/>
              </a:rPr>
              <a:t>tracking)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за енергийна ефективност, възобновяеми енергийни източници, изменение на климата и биоразнообразие (вкл. Натура 2000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6021360"/>
            <a:ext cx="8209080" cy="836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2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ЕКОЛОГИЧНА ОЦЕНКА</a:t>
            </a: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424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Европейската комисия разработи </a:t>
            </a:r>
            <a:r>
              <a:rPr b="1" lang="bg-BG" sz="2800" spc="-1" strike="noStrike" u="sng">
                <a:solidFill>
                  <a:srgbClr val="333399"/>
                </a:solidFill>
                <a:uFillTx/>
                <a:latin typeface="Times New Roman"/>
              </a:rPr>
              <a:t>Указания за предварителна оценка на ОП за периода 2014-2020 г.</a:t>
            </a: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 (юни 2012 г.), даващи допълнителни насоки по екологичната оценка на оперативните прог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Спазването им при програмирането е гаранция за адекватното интегриране на политиките по околна среда и изменение на кли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5805360"/>
            <a:ext cx="8209080" cy="105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3:46:28Z</dcterms:created>
  <dc:creator>user</dc:creator>
  <dc:description/>
  <dc:language>en-US</dc:language>
  <cp:lastModifiedBy>user_nec</cp:lastModifiedBy>
  <dcterms:modified xsi:type="dcterms:W3CDTF">2012-12-15T07:27:00Z</dcterms:modified>
  <cp:revision>222</cp:revision>
  <dc:subject/>
  <dc:title>Slide 1</dc:title>
</cp:coreProperties>
</file>